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0080" y="2819160"/>
            <a:ext cx="49528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70080" y="5870520"/>
            <a:ext cx="49528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0080" y="2819160"/>
            <a:ext cx="2416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080" y="2819160"/>
            <a:ext cx="2416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70080" y="5870520"/>
            <a:ext cx="2416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808080" y="5870520"/>
            <a:ext cx="2416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70080" y="2819160"/>
            <a:ext cx="15944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44800" y="2819160"/>
            <a:ext cx="15944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19160" y="2819160"/>
            <a:ext cx="15944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70080" y="5870520"/>
            <a:ext cx="15944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944800" y="5870520"/>
            <a:ext cx="15944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619160" y="5870520"/>
            <a:ext cx="15944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70080" y="2819160"/>
            <a:ext cx="4952880" cy="58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0080" y="2819160"/>
            <a:ext cx="495288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0080" y="2819160"/>
            <a:ext cx="241668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08080" y="2819160"/>
            <a:ext cx="241668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635040"/>
            <a:ext cx="10464840" cy="97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0080" y="2819160"/>
            <a:ext cx="2416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808080" y="2819160"/>
            <a:ext cx="241668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70080" y="5870520"/>
            <a:ext cx="2416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70080" y="2819160"/>
            <a:ext cx="4952880" cy="58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0080" y="2819160"/>
            <a:ext cx="241668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08080" y="2819160"/>
            <a:ext cx="2416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080" y="5870520"/>
            <a:ext cx="2416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0080" y="2819160"/>
            <a:ext cx="2416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8080" y="2819160"/>
            <a:ext cx="2416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70080" y="5870520"/>
            <a:ext cx="49528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0080" y="2819160"/>
            <a:ext cx="49528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70080" y="5870520"/>
            <a:ext cx="49528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0080" y="2819160"/>
            <a:ext cx="2416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8080" y="2819160"/>
            <a:ext cx="2416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70080" y="5870520"/>
            <a:ext cx="2416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3808080" y="5870520"/>
            <a:ext cx="2416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0080" y="2819160"/>
            <a:ext cx="15944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44800" y="2819160"/>
            <a:ext cx="15944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19160" y="2819160"/>
            <a:ext cx="15944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70080" y="5870520"/>
            <a:ext cx="15944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944800" y="5870520"/>
            <a:ext cx="15944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4619160" y="5870520"/>
            <a:ext cx="15944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270080" y="2819160"/>
            <a:ext cx="4952880" cy="58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70080" y="2819160"/>
            <a:ext cx="495288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70080" y="2819160"/>
            <a:ext cx="241668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08080" y="2819160"/>
            <a:ext cx="241668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70080" y="2819160"/>
            <a:ext cx="495288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69720" y="635040"/>
            <a:ext cx="10464840" cy="97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70080" y="2819160"/>
            <a:ext cx="2416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08080" y="2819160"/>
            <a:ext cx="241668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70080" y="5870520"/>
            <a:ext cx="2416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70080" y="2819160"/>
            <a:ext cx="241668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08080" y="2819160"/>
            <a:ext cx="2416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808080" y="5870520"/>
            <a:ext cx="2416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70080" y="2819160"/>
            <a:ext cx="2416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08080" y="2819160"/>
            <a:ext cx="2416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70080" y="5870520"/>
            <a:ext cx="49528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0080" y="2819160"/>
            <a:ext cx="49528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270080" y="5870520"/>
            <a:ext cx="49528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70080" y="2819160"/>
            <a:ext cx="2416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808080" y="2819160"/>
            <a:ext cx="2416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270080" y="5870520"/>
            <a:ext cx="2416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808080" y="5870520"/>
            <a:ext cx="2416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70080" y="2819160"/>
            <a:ext cx="15944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944800" y="2819160"/>
            <a:ext cx="15944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19160" y="2819160"/>
            <a:ext cx="15944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270080" y="5870520"/>
            <a:ext cx="15944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2944800" y="5870520"/>
            <a:ext cx="15944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4619160" y="5870520"/>
            <a:ext cx="15944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270080" y="2819160"/>
            <a:ext cx="4952880" cy="58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70080" y="2819160"/>
            <a:ext cx="495288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70080" y="2819160"/>
            <a:ext cx="241668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808080" y="2819160"/>
            <a:ext cx="241668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0080" y="2819160"/>
            <a:ext cx="241668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808080" y="2819160"/>
            <a:ext cx="241668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269720" y="635040"/>
            <a:ext cx="10464840" cy="97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70080" y="2819160"/>
            <a:ext cx="2416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08080" y="2819160"/>
            <a:ext cx="241668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70080" y="5870520"/>
            <a:ext cx="2416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70080" y="2819160"/>
            <a:ext cx="241668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08080" y="2819160"/>
            <a:ext cx="2416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808080" y="5870520"/>
            <a:ext cx="2416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70080" y="2819160"/>
            <a:ext cx="2416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808080" y="2819160"/>
            <a:ext cx="2416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70080" y="5870520"/>
            <a:ext cx="49528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70080" y="2819160"/>
            <a:ext cx="49528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270080" y="5870520"/>
            <a:ext cx="49528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70080" y="2819160"/>
            <a:ext cx="2416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08080" y="2819160"/>
            <a:ext cx="2416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70080" y="5870520"/>
            <a:ext cx="2416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808080" y="5870520"/>
            <a:ext cx="2416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70080" y="2819160"/>
            <a:ext cx="15944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44800" y="2819160"/>
            <a:ext cx="15944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19160" y="2819160"/>
            <a:ext cx="15944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270080" y="5870520"/>
            <a:ext cx="15944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44800" y="5870520"/>
            <a:ext cx="15944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4619160" y="5870520"/>
            <a:ext cx="159444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635040"/>
            <a:ext cx="10464840" cy="97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70080" y="2819160"/>
            <a:ext cx="2416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808080" y="2819160"/>
            <a:ext cx="241668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70080" y="5870520"/>
            <a:ext cx="2416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0080" y="2819160"/>
            <a:ext cx="241668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08080" y="2819160"/>
            <a:ext cx="2416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080" y="5870520"/>
            <a:ext cx="2416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0080" y="2819160"/>
            <a:ext cx="2416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08080" y="2819160"/>
            <a:ext cx="24166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70080" y="5870520"/>
            <a:ext cx="4952880" cy="27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281916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4000"/>
          </a:bodyPr>
          <a:p>
            <a:pPr marL="426600" indent="-426600"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1" marL="853200" indent="-426600"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2" marL="1279800" indent="-426600"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3" marL="1706400" indent="-426600"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4" marL="2133720" indent="-426960">
              <a:spcBef>
                <a:spcPts val="2999"/>
              </a:spcBef>
              <a:buSzPct val="100000"/>
              <a:buBlip>
                <a:blip r:embed="rId7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5" marL="2133720" indent="-426960">
              <a:spcBef>
                <a:spcPts val="2999"/>
              </a:spcBef>
              <a:buSzPct val="100000"/>
              <a:buBlip>
                <a:blip r:embed="rId8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6" marL="2133720" indent="-426960">
              <a:spcBef>
                <a:spcPts val="2999"/>
              </a:spcBef>
              <a:buSzPct val="100000"/>
              <a:buBlip>
                <a:blip r:embed="rId9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70080" y="2819160"/>
            <a:ext cx="495288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312480" indent="-312480">
              <a:spcBef>
                <a:spcPts val="2801"/>
              </a:spcBef>
              <a:buSzPct val="100000"/>
              <a:buBlip>
                <a:blip r:embed="rId3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1" marL="723960" indent="-312480">
              <a:spcBef>
                <a:spcPts val="2801"/>
              </a:spcBef>
              <a:buSzPct val="100000"/>
              <a:buBlip>
                <a:blip r:embed="rId4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2" marL="1135440" indent="-312480">
              <a:spcBef>
                <a:spcPts val="2801"/>
              </a:spcBef>
              <a:buSzPct val="100000"/>
              <a:buBlip>
                <a:blip r:embed="rId5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3" marL="1546920" indent="-312480">
              <a:spcBef>
                <a:spcPts val="2801"/>
              </a:spcBef>
              <a:buSzPct val="100000"/>
              <a:buBlip>
                <a:blip r:embed="rId6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4" marL="1958040" indent="-312480">
              <a:spcBef>
                <a:spcPts val="2801"/>
              </a:spcBef>
              <a:buSzPct val="100000"/>
              <a:buBlip>
                <a:blip r:embed="rId7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5" marL="1958040" indent="-312480">
              <a:spcBef>
                <a:spcPts val="2801"/>
              </a:spcBef>
              <a:buSzPct val="100000"/>
              <a:buBlip>
                <a:blip r:embed="rId8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6" marL="1958040" indent="-312480">
              <a:spcBef>
                <a:spcPts val="2801"/>
              </a:spcBef>
              <a:buSzPct val="100000"/>
              <a:buBlip>
                <a:blip r:embed="rId9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InsertedImage.jpg"/>
          <p:cNvPicPr/>
          <p:nvPr/>
        </p:nvPicPr>
        <p:blipFill>
          <a:blip r:embed="rId2"/>
          <a:srcRect l="-463" t="0" r="-463" b="0"/>
          <a:stretch/>
        </p:blipFill>
        <p:spPr>
          <a:xfrm>
            <a:off x="4033800" y="1100160"/>
            <a:ext cx="5240520" cy="61516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2056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Latin America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all To Order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68280" y="2817720"/>
            <a:ext cx="10466640" cy="58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07960" indent="-507960"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In which of the following situations would you intervene? Explain your reasons.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507960" indent="-507960"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A couple is arguing in a movie theater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507960" indent="-507960"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A stranger slips and falls in the parking lot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507960" indent="-507960"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Two friends are  fighting in the hallway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" descr="InsertedImage.jpg"/>
          <p:cNvPicPr/>
          <p:nvPr/>
        </p:nvPicPr>
        <p:blipFill>
          <a:blip r:embed="rId2"/>
          <a:srcRect l="12988" t="0" r="12988" b="0"/>
          <a:stretch/>
        </p:blipFill>
        <p:spPr>
          <a:xfrm>
            <a:off x="7188120" y="3048120"/>
            <a:ext cx="4089600" cy="53974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Panama Canal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0080" y="2819160"/>
            <a:ext cx="495288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5920" indent="-385920">
              <a:spcBef>
                <a:spcPts val="2801"/>
              </a:spcBef>
              <a:buSzPct val="100000"/>
              <a:buBlip>
                <a:blip r:embed="rId3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U.S. had more economic interests in the Pacific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marL="385920" indent="-385920">
              <a:spcBef>
                <a:spcPts val="2801"/>
              </a:spcBef>
              <a:buSzPct val="100000"/>
              <a:buBlip>
                <a:blip r:embed="rId4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Needed a way to get ships there quickly without going around South America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marL="385920" indent="-385920">
              <a:spcBef>
                <a:spcPts val="2801"/>
              </a:spcBef>
              <a:buSzPct val="100000"/>
              <a:buBlip>
                <a:blip r:embed="rId5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Roosevelt paid Panama $10 million plus an annual fee of $250,000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" descr="InsertedImage.jpg"/>
          <p:cNvPicPr/>
          <p:nvPr/>
        </p:nvPicPr>
        <p:blipFill>
          <a:blip r:embed="rId2"/>
          <a:srcRect l="10065" t="0" r="10065" b="0"/>
          <a:stretch/>
        </p:blipFill>
        <p:spPr>
          <a:xfrm>
            <a:off x="1701720" y="1270080"/>
            <a:ext cx="9614160" cy="722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InsertedImage.jpg"/>
          <p:cNvPicPr/>
          <p:nvPr/>
        </p:nvPicPr>
        <p:blipFill>
          <a:blip r:embed="rId2"/>
          <a:srcRect l="21533" t="0" r="21533" b="0"/>
          <a:stretch/>
        </p:blipFill>
        <p:spPr>
          <a:xfrm>
            <a:off x="7873920" y="2590920"/>
            <a:ext cx="4302360" cy="56768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Roosevelt Corollary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70080" y="2361960"/>
            <a:ext cx="6222960" cy="629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366480" indent="-366480">
              <a:spcBef>
                <a:spcPts val="2801"/>
              </a:spcBef>
              <a:buSzPct val="100000"/>
              <a:buBlip>
                <a:blip r:embed="rId3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United States wanted to buy cheap raw goods from Latin America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marL="366480" indent="-366480">
              <a:spcBef>
                <a:spcPts val="2801"/>
              </a:spcBef>
              <a:buSzPct val="100000"/>
              <a:buBlip>
                <a:blip r:embed="rId4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Worried about instability in Latin America and how that might U.S. economy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marL="366480" indent="-366480">
              <a:spcBef>
                <a:spcPts val="2801"/>
              </a:spcBef>
              <a:buSzPct val="100000"/>
              <a:buBlip>
                <a:blip r:embed="rId5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Monroe Doctrine was intended to keep European power out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marL="366480" indent="-366480">
              <a:spcBef>
                <a:spcPts val="2801"/>
              </a:spcBef>
              <a:buSzPct val="100000"/>
              <a:buBlip>
                <a:blip r:embed="rId6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The "Roosevelt Corollary" said that the U.S. had the right to "police" Latin America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" descr="InsertedImage.jpg"/>
          <p:cNvPicPr/>
          <p:nvPr/>
        </p:nvPicPr>
        <p:blipFill>
          <a:blip r:embed="rId2"/>
          <a:srcRect l="0" t="-69" r="0" b="-69"/>
          <a:stretch/>
        </p:blipFill>
        <p:spPr>
          <a:xfrm>
            <a:off x="2741760" y="934920"/>
            <a:ext cx="7154640" cy="788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InsertedImage.jpg"/>
          <p:cNvPicPr/>
          <p:nvPr/>
        </p:nvPicPr>
        <p:blipFill>
          <a:blip r:embed="rId2"/>
          <a:srcRect l="2060" t="0" r="-762" b="0"/>
          <a:stretch/>
        </p:blipFill>
        <p:spPr>
          <a:xfrm>
            <a:off x="5343480" y="3406680"/>
            <a:ext cx="6653160" cy="46656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Big Stick Diplomacy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67920" y="2817720"/>
            <a:ext cx="396396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5920" indent="-385920">
              <a:spcBef>
                <a:spcPts val="2801"/>
              </a:spcBef>
              <a:buSzPct val="100000"/>
              <a:buBlip>
                <a:blip r:embed="rId3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Roosevelt had a saying, "speak softly, but carry a big stick"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marL="385920" indent="-385920">
              <a:spcBef>
                <a:spcPts val="2801"/>
              </a:spcBef>
              <a:buSzPct val="100000"/>
              <a:buBlip>
                <a:blip r:embed="rId4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Other presidents after him also intervened in Latin American affairs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lly Zeins</cp:lastModifiedBy>
  <dcterms:modified xsi:type="dcterms:W3CDTF">2011-12-19T04:07:41Z</dcterms:modified>
  <cp:revision>1</cp:revision>
  <dc:subject/>
  <dc:title>Latin America</dc:title>
</cp:coreProperties>
</file>